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028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move the slide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028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6395B-F20E-4B4A-A826-6A8325C82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CD441-7FDA-4F0A-9804-1014AC4610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6065E-7C56-45D9-ACF8-077A2F698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92870-652D-4E9B-B476-623F246E29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4FE2E-9CFB-4AD5-8896-35F63D67B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D90B5-C5E1-4DB5-A7D9-75F4B795B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3DBDB-98EA-4387-A8B8-5574CCA01F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8E031-96BC-43F2-9619-93C815DD3C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74181-483A-4516-AD0F-BE349DD1F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671A9-B225-4A15-B2FA-952C1271F4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A41AE-34F9-4BAD-927F-7702A548BA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4C9D3-89A1-4FC7-AD3E-2DAEA82B51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B5406-5F74-4E3B-9FE9-C3A1657423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E75-AFCF-4731-A92C-DAB7B569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F28-2A04-4ECF-A5BE-57DFA5BA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532-313A-4711-9212-A93F862B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49B-7875-4C55-9E34-9509A150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A055-64DB-478B-A646-4D411D8E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1837-958A-47E1-B657-9DF5E181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EB26-9207-4679-94B0-C54298ED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CB47-E8FF-497D-85AB-0530E5C6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FDE0-B085-4690-A85A-4FE20726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3A4B-74FD-414D-B39E-7B2E65D7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B327-20C3-456C-8395-9FD86489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4ED-DA29-4F7D-BD1B-1FD7F95B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243B-3D52-4A4C-B534-AD01B95B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4F2A-E13A-4A22-9203-D30B38DF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1DE0-9724-49A0-993D-A7F39FBC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78ED-D0A9-43FB-A964-1CD71B6A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DACE-E95B-49A7-B6DA-74E17B98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A4A8-A3AE-4953-A65D-FDFC1E8D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B59-53EB-4DA5-862E-89546EB5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1E7-FD04-45A9-B74E-5DF95A50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312-1D6B-4C69-8B0C-63E9CB28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9E51-F947-490D-B539-AA282EEB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451-E1BB-43F0-9F96-7439E56F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582-136B-4D42-9AD0-7809B23D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567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84000" y="5164200"/>
            <a:ext cx="2338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6280" y="5164200"/>
            <a:ext cx="3186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A3025-6659-4DEF-8BF9-75FAF63A8C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444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5165280"/>
            <a:ext cx="31892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360" y="5165280"/>
            <a:ext cx="2341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06460-8672-40B1-9006-3D8C456A60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0C67D-E31C-45E0-9425-35BC027BEA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216000"/>
            <a:ext cx="7956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d1f63"/>
                </a:solidFill>
                <a:latin typeface="Arial Black"/>
              </a:rPr>
              <a:t>Институциональная модель управления деятельностью педагогов по повышению образовательных результатов по английскому языку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87640" y="3606840"/>
            <a:ext cx="6191280" cy="17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мнина Т.В.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меститель директора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 УР,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читель английского языка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АОУ «Гимназия №10» г. Перм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0D49E-3926-499A-9989-7C495B8A6B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Работа с кадрами,</a:t>
            </a:r>
            <a:br>
              <a:rPr sz="2800"/>
            </a:b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 родительской общественностью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63000"/>
          </a:bodyPr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ланы профессионального развития педагогов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систематическое повышение квалификации учителей английского язык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ежегодное участие в международном проекте ПРОФИ-КРА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 саморазвитие учителе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рофилактика профессионального выгорания педагогов через поощрения и создание ситуации успех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540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сихологическое сопровождение образовательного процесс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ая работа с учащимися и их родителями по выбору базового и углубленного изучения язык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открытых уроков для родителей, 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ые консультации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6C2E5-0313-464F-9073-B8C8ADC2DB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19280" y="1368360"/>
          <a:ext cx="8091360" cy="4218120"/>
        </p:xfrm>
        <a:graphic>
          <a:graphicData uri="http://schemas.openxmlformats.org/drawingml/2006/table">
            <a:tbl>
              <a:tblPr/>
              <a:tblGrid>
                <a:gridCol w="4046400"/>
                <a:gridCol w="4044960"/>
              </a:tblGrid>
              <a:tr h="422280">
                <a:tc gridSpan="2">
                  <a:txBody>
                    <a:bodyPr lIns="90000" rIns="90000" tIns="83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</a:rPr>
                        <a:t>Качество образовательных достижений учащих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80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ровень обученнос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55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чество знан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О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3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Е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2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476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мониторинга предметных результатов учащихся 8 класс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11303-583D-4054-9D22-3233F9F0D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 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19280" y="1368000"/>
            <a:ext cx="809136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19280" y="1368360"/>
          <a:ext cx="8094600" cy="4335480"/>
        </p:xfrm>
        <a:graphic>
          <a:graphicData uri="http://schemas.openxmlformats.org/drawingml/2006/table">
            <a:tbl>
              <a:tblPr/>
              <a:tblGrid>
                <a:gridCol w="4048200"/>
                <a:gridCol w="4046400"/>
              </a:tblGrid>
              <a:tr h="36828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ачество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разование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 педагогов с высшим педагогическим  образова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748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валификация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величение за три года учителей с высшей квалификационной категор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нание предм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тестирования уч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одика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ладение цифровыми образовательными технологи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63640"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8F036-71EB-434D-B8DF-FAB4FD4FB7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003d73"/>
                </a:solidFill>
                <a:latin typeface="Arial Black"/>
              </a:rPr>
              <a:t>Качество образования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944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160" y="2438280"/>
            <a:ext cx="10088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440000" y="1728720"/>
            <a:ext cx="2592360" cy="2087640"/>
          </a:xfrm>
          <a:prstGeom prst="wedgeEllipseCallout">
            <a:avLst>
              <a:gd name="adj1" fmla="val -27013"/>
              <a:gd name="adj2" fmla="val 128518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у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103640" y="1511280"/>
            <a:ext cx="2735280" cy="2519280"/>
          </a:xfrm>
          <a:prstGeom prst="wedgeEllipseCallout">
            <a:avLst>
              <a:gd name="adj1" fmla="val -4523"/>
              <a:gd name="adj2" fmla="val 112800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нтия ка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ординиров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983280" y="1008000"/>
            <a:ext cx="3168720" cy="2879640"/>
          </a:xfrm>
          <a:prstGeom prst="wedgeEllipseCallout">
            <a:avLst>
              <a:gd name="adj1" fmla="val 6069"/>
              <a:gd name="adj2" fmla="val 7942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независи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о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, ЕГЭ, НИКО, ВПР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F6411-792C-44F1-8C76-17D3EB944A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29960"/>
            <a:ext cx="80978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декомпозиции деятельности администрации в целях повышения качества образовательных услуг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планирование качества — формирование стратегии деятельности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 управление качеством — методы и виды деятельности организации оперативного характера, используемые для выполнения требований к качеству образования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беспечение качества — методы и виды деятельности организации, направленные на создание уверенности в том, что требования к качеству будут выполнены: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улучшение качества — виды деятельности, направленные на улучшение способности выполнить требования к качеству образования (результативность, эффективность…)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ценка качества — доказательство того, что заданные требования к качеству образования выполнены.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F60BC-7708-453D-8FE7-2017D3751C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3800" y="70920"/>
            <a:ext cx="809784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d73"/>
                </a:solidFill>
                <a:latin typeface="Arial Black"/>
              </a:rPr>
              <a:t>Институциональная модель управления деятельностью педагогов МАОУ «Гимназия №10» по повышению качества образовательных результатов по английскому языку</a:t>
            </a:r>
            <a:endParaRPr b="0" lang="en-US" sz="20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8101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1224000" y="-360360"/>
            <a:ext cx="71280" cy="144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608360" y="3095640"/>
            <a:ext cx="3095640" cy="2592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616720" y="3959280"/>
            <a:ext cx="144360" cy="144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63640" y="3527280"/>
            <a:ext cx="2160720" cy="1800360"/>
          </a:xfrm>
          <a:prstGeom prst="flowChartProcess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БО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584360" y="1584360"/>
            <a:ext cx="1871640" cy="1224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08360" y="1511280"/>
            <a:ext cx="1656000" cy="1368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7056360" y="1008000"/>
            <a:ext cx="3168720" cy="1079640"/>
          </a:xfrm>
          <a:prstGeom prst="cloudCallout">
            <a:avLst>
              <a:gd name="adj1" fmla="val -20777"/>
              <a:gd name="adj2" fmla="val 35699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КИ,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8064360" y="3527280"/>
            <a:ext cx="1656000" cy="194472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1944720"/>
              <a:gd name="textAreaBottom" fmla="*/ 1864080 h 1944720"/>
            </a:gdLst>
            <a:ahLst/>
            <a:rect l="textAreaLeft" t="textAreaTop" r="textAreaRight" b="textAreaBottom"/>
            <a:pathLst>
              <a:path w="21600" h="25365">
                <a:moveTo>
                  <a:pt x="3600" y="0"/>
                </a:moveTo>
                <a:arcTo wR="3600" hR="3600" stAng="16200000" swAng="-5400000"/>
                <a:lnTo>
                  <a:pt x="0" y="21765"/>
                </a:lnTo>
                <a:arcTo wR="3600" hR="3600" stAng="10800000" swAng="-5400000"/>
                <a:lnTo>
                  <a:pt x="18000" y="25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tretch/>
        </p:blipFill>
        <p:spPr>
          <a:xfrm>
            <a:off x="3154320" y="392580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2041560" y="2808360"/>
            <a:ext cx="62244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3"/>
          <a:stretch/>
        </p:blipFill>
        <p:spPr>
          <a:xfrm>
            <a:off x="3456000" y="183816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6121440" y="1511280"/>
            <a:ext cx="33829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58E52-28AD-4D8F-871D-6ED39E23F4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84360" y="144360"/>
            <a:ext cx="8097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по управлению качеством обучения английскому языку в гимназии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0000"/>
          </a:bodyPr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1. Диагнос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2. Организационны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3. Прак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4. Анали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896000" y="1150920"/>
            <a:ext cx="720720" cy="3889440"/>
          </a:xfrm>
          <a:custGeom>
            <a:avLst/>
            <a:gdLst>
              <a:gd name="textAreaLeft" fmla="*/ 0 w 720720"/>
              <a:gd name="textAreaRight" fmla="*/ 260280 w 72072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985000" y="1440000"/>
            <a:ext cx="3951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342"/>
                </a:solidFill>
                <a:latin typeface="Arial"/>
              </a:rPr>
              <a:t>Работа с педагогическим коллективом, учащимися, родительской обществен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672ED-8C1B-4036-86B9-DD1078100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Диагностически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4000"/>
          </a:bodyPr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тартовый педагогический совет по результатам внешней независимой оценки качества образования (ОГЭ, ЕГЭ, НИКО, ВПР) -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ходная диагностика —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оздание проблемной группы по актуальным проблемам (Например: «Разработка разноуровневых заданий на уроках английского языка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ыбор методической темы каждым педагогом на учебный год в соответсвии с выявленными проблемами (Например: «Цифровые образовательные ресурсы в обучении грамматике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C1D11-4E84-4757-AA36-EA5C6266F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Организационны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1640" y="1368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4680000" y="3456000"/>
            <a:ext cx="2076480" cy="2025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др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564320" y="4176720"/>
            <a:ext cx="2152800" cy="1362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уро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800360" y="3365640"/>
            <a:ext cx="2447640" cy="2106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124760" y="1420920"/>
            <a:ext cx="2592360" cy="1963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одитель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ен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871640" y="151128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                 матер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3672000" y="1413000"/>
            <a:ext cx="366696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A3172-CAE3-48EF-9EBD-AB94C72B05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d73"/>
                </a:solidFill>
                <a:latin typeface="Arial Black"/>
              </a:rPr>
              <a:t>Нормативно-правовая база, материально-техническое обеспечение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8000"/>
          </a:bodyPr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1. Нормативно-правовая база (изменение в локальном акте «Положение о текущей и промежуточной аттестации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2. Материально-техническая база (100% кабинетов оснащены компьютерами, проекторами, в наличие смарт-доски, лингафонный кабинет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FDE56-829F-4699-9CE8-A3D9C38F42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Организационно-методическая работа, внеурочная деятельность 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9000"/>
          </a:bodyPr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коррекция содержания тематического планирования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мониторинговые карты учащихся по видам деятельности,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ный анализ контрольных работ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разработка индивидуальных карт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 внутренних мониторингов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учительский «аудит»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765760" y="1368360"/>
            <a:ext cx="39499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765760" y="1368360"/>
            <a:ext cx="394812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ежегодные декады английского язы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школьный конкурс песен о любви на английском 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Конкурс Спикеров «</a:t>
            </a: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We discover the world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олимпиадное движ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а факультати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2T11:40:59Z</dcterms:created>
  <dc:creator>User</dc:creator>
  <dc:description/>
  <dc:language>en-US</dc:language>
  <cp:lastModifiedBy>1</cp:lastModifiedBy>
  <dcterms:modified xsi:type="dcterms:W3CDTF">2019-02-07T03:20:46Z</dcterms:modified>
  <cp:revision>8</cp:revision>
  <dc:subject/>
  <dc:title>DNA</dc:title>
</cp:coreProperties>
</file>